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58D-95C3-4D36-A1FD-A529D0B4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51-5D38-470D-AC63-4AD76C48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565FF-D0FF-4854-A507-3872D3BC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FB59D-6656-4418-8DEE-D79ED7B3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4FEA4-63BF-482A-80CF-2260A79F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E3745-1DD9-4733-A9F4-65F78B2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757CF-1A49-4A45-8518-85333A7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6C687C-68DE-4A17-A43C-7BAF1BD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4E133-5770-4C39-BE43-03DEF01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01271F-1CEF-48F2-8A26-444AF2A0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109DE-136C-4CD9-B0D0-F4E7AADB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34C-D18A-423F-87B1-97153AE3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071-A567-4D25-860E-1F3207DA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B3E2-93B7-4E75-9ECB-19B28805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30DEF-AC28-4CA4-BA41-0869700A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B31F-426C-4BB3-90E3-5D4D878B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0BCBC-6C0C-4124-92BB-44C010F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A400-C9BE-4A7F-9C94-F1BFC7CF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8A79F-37CF-4806-B359-E20E04C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D7BCE-6A95-49C7-A6DB-C344DA8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79D-B2DC-4AAD-869E-4B6E829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847A-E854-49F7-823E-E1F6B3D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20504-A3DA-49AC-8ED6-AC82675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84B43-E95E-4817-8533-F6AED36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31588-E06E-4458-9914-57A9F6E0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BE93-2157-48C6-BD7E-475DDC2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52C2-BDAD-4F7C-972A-618A47C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A05C-CE26-4D01-80CE-57012077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922F-6748-4774-85E2-750D519D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97BF-938E-4E62-B368-442A789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2D2C-6903-4B64-B31D-1F4082C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ED7-3E45-41DA-859A-0D2F399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E25B-BCCE-4F30-8CF7-FE00E8A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C048-4EED-4FA5-8857-EB33AA2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E2BA-68A2-4BFB-8658-8DF8B44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EC36-FB67-40CF-927A-1AF5B23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5178-041C-4B19-AB09-B0D4DB79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4000-D357-44AD-9430-385ED373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32C0-8A37-433E-A187-94737262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3FE0A-E858-44EC-B2E7-8ADA38FF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08164-6582-40C4-8B8C-576293AD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7EB49-5F1D-4CD8-A0BA-934078E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8DA-213D-42F7-9EF9-B872208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8BF54-A447-4171-B7E7-AAB72F94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B595A-619F-477A-A38C-A5242D48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9734F-57FE-4E96-9A51-603C4216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5934B-9D66-4504-A662-BF8DDD39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8EED2-8FF6-424B-97A3-EEC3F81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3AC7D-B247-4864-A630-0488266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51A87-E739-4330-91CF-6719D323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EE114-3BEE-4B14-820B-ABB634B9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A6C32-FC53-446A-9383-D042306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CDED-2BA8-43A1-A852-CB548021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2B7-93F7-4A8F-86AA-ABE27C8D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871A-2CE5-4D68-8562-D5BA21A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4207-F94C-4EBD-9A16-22AD2B8F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03CB8-0A38-44F9-B532-217393F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50EA-408A-4C54-AD3E-CCEF282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154E-5901-4227-A69D-18CE24D7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45D8-C334-4AF8-B287-A544731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C765-2222-401F-AA36-0B7CA7F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F81A-81B6-4269-8560-066F620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DEB5-B849-47DD-8679-26986EB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BC0A-918B-4F79-9C4F-53E2720D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432-C717-480E-9D7D-9B8F2EF6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4F9C-BA6F-47A2-AA7F-BFC264A2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95D9-4DE4-4042-8BA1-9012C5FD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DBBF-5220-449D-99F5-D8F52B6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D3D3-0256-42D3-AB64-806D71B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045B-EA6E-4F0D-9DA6-DAF26DB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E3B74-4DB6-4E6F-925A-51B0F544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F160-0CB1-4D2F-9907-D8031E9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545E-5B9D-4EF4-B089-930F494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E6F7-C38D-49A3-999D-E8900A1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89CD-0652-4DF4-BC2E-F78F812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658-3E22-42C8-8637-C9D9EA4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3ADE4-FE2B-4B5F-BBD3-FBB03CD4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E9981-3B2E-4413-9A35-5DB19E55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B641-51DC-4992-A658-BCF2FF42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31A5-A513-4D89-B729-BCAE711C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34D7-38DD-46AD-889F-037AC9F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F5BE-7AA4-416A-B691-B633EBD7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E0BB-70E0-4A08-BDD3-F33C018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5ADAC-C151-4803-9333-522353D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61FB-299D-4811-8348-A364828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5C284-E195-4005-A712-643238F1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E5C-218F-48D1-9C22-F292110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37F1-F58C-4D0C-9C60-A8AB6FA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550C-F559-4491-AF51-7DB6B60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369A-9F80-427C-979C-7DFF8269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FAFF-255B-40C1-9E3B-08F4769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0B4FA-282F-49B1-A393-C580B2BD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BC0D08-C980-4A7D-8800-CB03DD7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29EEFB-31FF-4A4C-9352-855B8328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CC63E-31E0-41BD-94F0-7711B370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9DDD0-AF15-4745-A2E9-A24C40E8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57464-52B4-43C5-A857-6265AF5E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F8E-980D-4916-9613-23F796D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1E10D-4E4F-4025-9934-9607804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B4421-4FB7-47B9-9A67-71D9AAD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2ACD8D-60D9-4EE6-8306-11C547A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5ED94-199C-4021-958C-062A198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11D5F-5111-4253-8333-3C9ED09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3EF1E-BE72-40FF-9651-A83D15BB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047F3-ACEB-4ACA-8AAA-3C2FC56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6434F-1FBC-4759-97F7-F3389657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AD136-4806-4AA7-ACF7-FC75772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1F56E-EEF2-4EB9-8EB1-141D5723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91F-DDB0-48CA-9BA8-A866512E40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2D5-3A0C-4BDA-B338-13EE617571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84B-CC9E-4034-A374-1739F47B85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9478-E424-4FDA-9399-5D8037F2E95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3BA-544F-4B8E-95D8-ED9EDC695D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DED-B601-4EA9-A8CE-6301E244D8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FD0-62A0-4907-A831-DF3BCB2693D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DBD-0F18-49C3-A697-A8DCB5276E9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E7C-D300-448A-A98C-B331BCB9B4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hase changes and their process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racteristics of gas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 can fill a container of any shape or siz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 are considered to be in an evaporated stat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 have the most energy of the three phases of matte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me gases, such as carbon monoxide and chlorine gas, are poisonous to humans and are able to infiltrate an entire space quickl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e is a common picture concept for gas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20" name="Object 5"/>
          <p:cNvGraphicFramePr/>
          <p:nvPr/>
        </p:nvGraphicFramePr>
        <p:xfrm>
          <a:off x="2590920" y="2438280"/>
          <a:ext cx="403848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4382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n matter changes its form, we call it a “phase change.”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hase changes include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lids to liquids, and vice vers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quids to gases, and vice vers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lids to gases, and vice vers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ach phase change requires a gain or loss of energy and has a name that describes the pro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is what the process of going from a solid to a liqui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for a solid to melt, energy must be put into the system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common example is the change from ice to water.  In order for ice to melt into the liquid form of water, heat </a:t>
            </a: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must be added to the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49120" y="249120"/>
            <a:ext cx="87426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is the process of going from a liquid to a ga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for a liquid to evaporate, energy must be put into the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common example of evaporation is water boiling.  To change liquid water to water vapor, you must boil it (put energy 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is the process of going from a gas to a liqui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for a gas to condense into a liquid, it must either cool off or the pressure must increas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common example of condensation is dew forming on the grass in the mornings after a cool nigh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is the process of going from a liquid to a soli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for a solid to form from a liquid, it must lose a sufficient amount of energy for the particles to slow to a near standstil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common example of freezing is water being put into the freezer where energy is lost to the surroundings and liquid water changes to ic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311040" y="249120"/>
            <a:ext cx="8680680" cy="1165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106668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happens when a solid gains enough energy in a short period of time to skip straight to a gaseous sta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blimation is a fairly uncommon way for a solid to become a gas, as the energy required for the solid to sublimate is so great in a short amount of tim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solids, like Iodine, sublimate naturall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1066680" y="177156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position happens when a gas becomes a solid without becoming a liquid fir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position requires an extremely rapid loss of energ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stead of DE-position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nk RE-position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ke sublimation, it is not a terribly common phase chang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Object 3"/>
          <p:cNvGraphicFramePr/>
          <p:nvPr/>
        </p:nvGraphicFramePr>
        <p:xfrm>
          <a:off x="609480" y="1447920"/>
          <a:ext cx="784872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78487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phase change is a change in the physical arrangement of matt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does NOT mean anything has experienced a chemical chang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phase changes may occur in conjunction with chemical changes, but it is very important to remember that phase changes are PHYSICAL CHANGES!!!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 aware that all elements and compounds are unique and have different energy requirements for phase chang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should be able to describe the phase based on the motion of the particl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ttle movement = solid (low energy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oderate movement = liquid (medium energy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ree movement = gas (high energy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l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most organized phase of matter; solids hold their own shap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 solid, the atoms or molecules are not allowed to move freely, which means it keeps its shap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 metals are solids, but some non-metals and metalloids are also solids in their natural form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on characteristics of sol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’re har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 can be ground up and still hold a basic shap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ey are FROZEN; freezing doesn’t necessarily means it is cold, it just means that matter is sol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e are two common picture concepts of solid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272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qu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“middle” phase of matt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not as organized as solids but are more organized than g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do not have a set shape, as solids do, because atoms or molecules move more freel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 liquids are molecules of non-metals, except Mercury, which is a me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racteristics of liquid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ill take the shape of whatever is containing i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rd to compress (force it into a smaller space; in other words, increase amount of pressure on it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more energy than solids, as they are in a “melted” phas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ater is the most common liquid available for stu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is a common picture concept for liquid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12" name="Object 4"/>
          <p:cNvGraphicFramePr/>
          <p:nvPr/>
        </p:nvGraphicFramePr>
        <p:xfrm>
          <a:off x="2895480" y="2743200"/>
          <a:ext cx="3581640" cy="30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743200"/>
                    <a:ext cx="358164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s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least organized phase of matt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toms or molecules in the gaseous phase are free to move around without many restricti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ases also take the shape of their contain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 gases are non-metals, but any element can move to the gaseous phase if the temperature is high enough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00:21:40Z</dcterms:created>
  <dc:creator>Jeff</dc:creator>
  <dc:description/>
  <dc:language>en-US</dc:language>
  <cp:lastModifiedBy> </cp:lastModifiedBy>
  <cp:lastPrinted>2004-11-01T02:29:20Z</cp:lastPrinted>
  <dcterms:modified xsi:type="dcterms:W3CDTF">2009-01-12T16:36:19Z</dcterms:modified>
  <cp:revision>4</cp:revision>
  <dc:subject/>
  <dc:title>Structure of Matter</dc:title>
</cp:coreProperties>
</file>